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306D-A533-40F4-9FBB-878F98474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32-17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OUS QU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OLUTIONARY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AN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THA WASHING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VER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SHINGTON MONU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0C0-B8EF-491E-A898-F4D207B4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46E-CABE-41EC-8CD7-37F63DB1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471-618A-45A0-B2E1-CD96F0B2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DD9-129A-475C-9477-5F682D8B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DF5-6140-491F-9349-F2EFB7C0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9D0-4699-4FCA-AD8D-054FCC3E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CE8-C4E1-4097-939A-9083B7E3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904-29BE-4239-8EC9-8BD9AA7A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7B9-0C74-4736-BBCB-5FC0087A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67E-CEF9-4405-A450-540645C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9AE-05BD-42CE-8DA0-25C3564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679-997F-4A50-8EF8-A061D3CE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581E-6426-4505-9DCE-60684DBCE3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79684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32-17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MCj03979210000[1]"/>
          <p:cNvPicPr/>
          <p:nvPr/>
        </p:nvPicPr>
        <p:blipFill>
          <a:blip r:embed="rId1"/>
          <a:stretch/>
        </p:blipFill>
        <p:spPr>
          <a:xfrm>
            <a:off x="816120" y="655560"/>
            <a:ext cx="1622160" cy="1935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FAMOUS QUOT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0720" y="2924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rst in war, first in peace, first in the hearts of his countrymen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715000" y="518148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nks for watching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ttp://www.elcivic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first president of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erved two terms from 1789-17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called the Father of Our Count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2" descr="george_washington_bust_el_civics_history_government"/>
          <p:cNvPicPr/>
          <p:nvPr/>
        </p:nvPicPr>
        <p:blipFill>
          <a:blip r:embed="rId1"/>
          <a:stretch/>
        </p:blipFill>
        <p:spPr>
          <a:xfrm>
            <a:off x="612720" y="1600200"/>
            <a:ext cx="342576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REVOLUTIONARY WA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7" descr="washington_taking control_american_army_july_1775_new"/>
          <p:cNvPicPr/>
          <p:nvPr/>
        </p:nvPicPr>
        <p:blipFill>
          <a:blip r:embed="rId1"/>
          <a:stretch/>
        </p:blipFill>
        <p:spPr>
          <a:xfrm>
            <a:off x="762120" y="1584360"/>
            <a:ext cx="3427200" cy="24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ed States fought England in the Revolutionary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volutionary war was from 1775-178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1" descr="washington_crossing_delaware"/>
          <p:cNvPicPr/>
          <p:nvPr/>
        </p:nvPicPr>
        <p:blipFill>
          <a:blip r:embed="rId2"/>
          <a:stretch/>
        </p:blipFill>
        <p:spPr>
          <a:xfrm>
            <a:off x="762120" y="4267080"/>
            <a:ext cx="3427200" cy="20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MMAND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2" name="Picture 8" descr="washington_revolutionary_war"/>
          <p:cNvPicPr/>
          <p:nvPr/>
        </p:nvPicPr>
        <p:blipFill>
          <a:blip r:embed="rId1"/>
          <a:stretch/>
        </p:blipFill>
        <p:spPr>
          <a:xfrm>
            <a:off x="762120" y="1676520"/>
            <a:ext cx="3427200" cy="420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was the Commander of the military forces during the American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a monument of Washington on a ho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george_washington_horseback_citizenship"/>
          <p:cNvPicPr/>
          <p:nvPr/>
        </p:nvPicPr>
        <p:blipFill>
          <a:blip r:embed="rId1"/>
          <a:stretch/>
        </p:blipFill>
        <p:spPr>
          <a:xfrm>
            <a:off x="838080" y="1646280"/>
            <a:ext cx="3427560" cy="47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THA WASHINGT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0" name="Picture 6" descr="martha_washington_stamp"/>
          <p:cNvPicPr/>
          <p:nvPr/>
        </p:nvPicPr>
        <p:blipFill>
          <a:blip r:embed="rId1"/>
          <a:stretch/>
        </p:blipFill>
        <p:spPr>
          <a:xfrm>
            <a:off x="838080" y="1938240"/>
            <a:ext cx="3427560" cy="40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old postage stamp has a picture of Martha Washington o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and George got married in 175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VERN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7" descr="shed_mount_vernon"/>
          <p:cNvPicPr/>
          <p:nvPr/>
        </p:nvPicPr>
        <p:blipFill>
          <a:blip r:embed="rId1"/>
          <a:stretch/>
        </p:blipFill>
        <p:spPr>
          <a:xfrm>
            <a:off x="839880" y="4114800"/>
            <a:ext cx="342720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and Martha’s home is called Mount Vernon.  It is located in Virginia near the Potomac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ashington and his wife Martha are buri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1" descr="mount_vernon_estate"/>
          <p:cNvPicPr/>
          <p:nvPr/>
        </p:nvPicPr>
        <p:blipFill>
          <a:blip r:embed="rId2"/>
          <a:stretch/>
        </p:blipFill>
        <p:spPr>
          <a:xfrm>
            <a:off x="838080" y="1600200"/>
            <a:ext cx="3427560" cy="22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 Rushmore is in South Dak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the heads of Washington, Jefferson, Roosevelt, and Lincoln carved in the side of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mount_rushmore_george_washington"/>
          <p:cNvPicPr/>
          <p:nvPr/>
        </p:nvPicPr>
        <p:blipFill>
          <a:blip r:embed="rId1"/>
          <a:stretch/>
        </p:blipFill>
        <p:spPr>
          <a:xfrm>
            <a:off x="639720" y="1646280"/>
            <a:ext cx="339876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ASHINGTON MONUMEN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ashington Monument is in Washington, D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llest structure in the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rists can ride elevators to the t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washington_monument"/>
          <p:cNvPicPr/>
          <p:nvPr/>
        </p:nvPicPr>
        <p:blipFill>
          <a:blip r:embed="rId1"/>
          <a:stretch/>
        </p:blipFill>
        <p:spPr>
          <a:xfrm>
            <a:off x="685800" y="1600200"/>
            <a:ext cx="3427560" cy="456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03:09:10Z</dcterms:created>
  <dc:creator>christina niven</dc:creator>
  <dc:description/>
  <dc:language>en-US</dc:language>
  <cp:lastModifiedBy>Legion</cp:lastModifiedBy>
  <dcterms:modified xsi:type="dcterms:W3CDTF">2017-07-05T10:39:57Z</dcterms:modified>
  <cp:revision>36</cp:revision>
  <dc:subject/>
  <dc:title>George Washington</dc:title>
</cp:coreProperties>
</file>